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0C00-A777-4D36-BBEB-BFAC506707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p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34B-6CD4-436B-B483-EAF67804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E9B-B820-4208-8B1D-9557CF5D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F18-B6AF-4391-B73A-484D8991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0BF3-760B-420A-9FC1-CD9CF78E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F7F-D60D-4568-928A-A5CA0CE1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E73-888A-4ABB-8ECC-A0A0296C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6DB-6AA7-4D16-ACB7-3EFC9FD9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344-5FD5-4F87-AD27-255F15A5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74E-620B-447A-848A-55D0D4A7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1E1-6464-41B3-82DC-554D93A2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961-8631-42F3-9AA8-D4D191EE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9C4-9367-4CDC-86B0-3C58231C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4C20-6AC7-4BF5-B61A-B66AC984E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es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00"/>
                </a:solidFill>
                <a:uFillTx/>
                <a:latin typeface="Arial"/>
              </a:rPr>
              <a:t>La Guerra Civ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81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Álvaro González Garc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ara Martín Sánc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4º ESO. Junio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ES. Federico García Berna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l Enfrentamiento de 19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división dentro de las fuerzas republic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frentamiento armado en Barcelo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an Negrin formó un gran ejerc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ítica de resistencia a ultranza (trece puntos Negrí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Un Nuevo Es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ta de defensa que nombró al general Franco generalísimo y jefe del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ó las FET y de las J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nuevo estado inspirado en el fasc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eminencia del catolic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: acabar con las reformas republic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105160" cy="3581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71600" y="38098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4290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ta de Def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33920" y="3276720"/>
            <a:ext cx="487656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 Represión sistem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ecución sistemática del Frente Pop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represión afectó a todos los republic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 Evolución Bé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desarrollo del confli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avance hacia Madr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Batalla del N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Batalla del E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fin de la Guerra y el exil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l Desarrollo del Confli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 zon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cionalistas: están en zonas agrícolas y de orientación política conservad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os: Están en las grandes ciudades y los núcleos industriales y obr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l Avance hacia Mad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ategia de los sublevados era avanzar hacia Madrid y tom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fuerzas republicanas frenaron la ofensiva franqu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los demás intentos fracasaron y decidieron cambiar de fr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Batalla del N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7 Batalla del N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6 Abril bombardeo de Gern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tropas franquistas toman Bilba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republicanos cayeron en Santander y en Astu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 Batalla del Eb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 los sublevados llegan al Mediterrán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republicanos lucharon en la Batalla del Ebro que hizo retroceder al ene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franquistas toman Barcelona y llegan a la frontera franc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solidFill>
            <a:srgbClr val="fdc7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09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743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2860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09680"/>
            <a:ext cx="19810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286000"/>
            <a:ext cx="20574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2209680"/>
            <a:ext cx="20574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286000"/>
            <a:ext cx="1981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17524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GUERR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42670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p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388620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atall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ombardeo de Ger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419112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all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3657600"/>
            <a:ext cx="1600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o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in de la Gu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80880"/>
            <a:ext cx="685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4572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Eje Cronoló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in de la Guerra y el Exilio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golpe de Estado contra Negrín, aunque este intentó negociarlo con Fran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la derrota republicana se inició el exilio ante el temor a la represión franqu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os exiliados lucharon en la Segunda Guerra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solidFill>
            <a:srgbClr val="fdc7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209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3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22860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209680"/>
            <a:ext cx="198108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2286000"/>
            <a:ext cx="20574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209680"/>
            <a:ext cx="20574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286000"/>
            <a:ext cx="1981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17524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GUERR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42670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p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8620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atall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ombardeo de Ger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419112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all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3657600"/>
            <a:ext cx="1600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o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cel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in de la Gu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Una Sociedad en Gu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 bombarde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Los ataques aéreos sobre las ciudades y las bombas atemorizaron a la población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 hamb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Los alimentos empezaron a escasear y apareció un mercado neg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843360" cy="528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343400" cy="31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2286000" y="5791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ombar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2286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a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 refugiad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Los republicanos se convirtieron en refugi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 milician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Fuerzas civiles voluntarias, organizadas por sindicatos. Permitieron alistamiento de muj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 trabaj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Muchas mujeres se incorporaron, para suplir a los homb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114800" cy="32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738600" cy="368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828800" y="3505320"/>
            <a:ext cx="4251240" cy="31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30492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os Refug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505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a mujer trabaj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228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os milici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971800" y="1143000"/>
            <a:ext cx="288144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N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733920"/>
            <a:ext cx="6705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bliograf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   Fotografías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oogle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   Texto: Demos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l Estallido de la Guerra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6-193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licto entre los partidos de la refo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izó con el estallido de la Guerra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Golpe de Estado    Guerra Civ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pe de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apoderaron de los órganos del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sublevados se hacen fue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republicanos frenan el Golpe de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aña quedó dividida en dos z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914400"/>
            <a:ext cx="3808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a Internacionalización del Confli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 repercusión inter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rontación entre las fuerzas democráticas y los regímenes fasc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sublevados contaron con la ayuda Italiana y Alem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ité de “no intervención” que perjudicó a la Re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gadas intern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816360" cy="528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3905280" cy="52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s dos zonas enfrent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zona republicana: guerra y rev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volución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enfrentamiento de 193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zona sublevada: una dictadura mili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nuevo es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 represión siste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 Revolu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ción de Comit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desató el anticlerica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ímbolos aristocráticos, burgueses o religiosos fueron perseguidos como enemi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o Caballero intentó controlar la revol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ron un ejercito pop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6:23:12Z</dcterms:created>
  <dc:creator>Usuario</dc:creator>
  <dc:description/>
  <dc:language>en-US</dc:language>
  <cp:lastModifiedBy>Equipo</cp:lastModifiedBy>
  <dcterms:modified xsi:type="dcterms:W3CDTF">2009-06-02T09:28:13Z</dcterms:modified>
  <cp:revision>12</cp:revision>
  <dc:subject/>
  <dc:title>La Guerra Civil</dc:title>
</cp:coreProperties>
</file>